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ylfae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Sylfae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ylfae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Sylfae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ylfae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Sylfae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24BE-DC62-4FDA-A99E-6E82DD84948C}" type="slidenum">
              <a:rPr b="0" lang="es-ES" sz="1200" spc="-1" strike="noStrike">
                <a:solidFill>
                  <a:srgbClr val="000000"/>
                </a:solidFill>
                <a:latin typeface="Sylfae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BE46-7FE7-4CB5-925A-A2E5522FF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6CFE-5D2D-47B4-826B-AD15CB9D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D8C8-6032-43B0-9912-2197D0098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33DC-02AD-4861-BECC-1BF56E73F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CA8D-1D19-45B9-A786-6D238E73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ACF4-5207-45C9-AA92-450F4348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7F42-9044-42E2-843F-CD69FA79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3BAF-55BC-4992-B171-CFAD1491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0EA0-28ED-4D8E-BCDF-521AF943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67D0-CFDF-48D8-9F6B-5CE4C92A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8B29-20B0-49EE-8CA6-715D5291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B91E-3DE4-4D2C-8D10-AB1CEB05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EDA9-DD78-4ACC-9837-64521870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E617-B795-422A-9D2A-DF8C34F5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7971-1E12-4C6D-98B2-82257861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969D-D2B0-4904-B458-6B2C869B9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2852-EE33-41E8-92A3-409DABC22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8216-85DA-46B2-AD7C-626CF40E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79C8-C3AA-47D4-AED5-91C34D0E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E2E9-8F12-4158-BA81-D508240A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4B12-2F17-453C-9052-091DBB09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80D9-9DC9-49EE-9677-26F31E32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39A1-0FC8-41D7-96F9-A43CD8BD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C315-3221-44F1-BE5C-8C8F5A1B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4D49-23C1-47C5-A535-63E9A868277F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B1AB-8011-4A14-A2F5-CC2AEF35EADC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univ01" descr="Universidad RJC"/>
          <p:cNvPicPr/>
          <p:nvPr/>
        </p:nvPicPr>
        <p:blipFill>
          <a:blip r:embed="rId1"/>
          <a:stretch/>
        </p:blipFill>
        <p:spPr>
          <a:xfrm>
            <a:off x="7467480" y="6192720"/>
            <a:ext cx="1676520" cy="665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066680" y="18288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Bertram"/>
              </a:rPr>
              <a:t>LA FISIOTERAPIA EN EL SÍNDROME X FRÁG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85324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fª. Laura Luna Oli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Fisioterape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632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ahoma"/>
              </a:rPr>
              <a:t>Objetivos del programa terapéu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04812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e4a8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EJORAR LA HIGIENE BRONCOPULMONAR</a:t>
            </a: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entury Gothic"/>
              </a:rPr>
              <a:t>Y EL CONTROL RESPIR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52280" y="2636640"/>
            <a:ext cx="8839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NORMALIZAR EL TONO MUSCULAR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:  facilitar los movimientos automáticos que permiten un desarrollo madurativo progresivo y 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controlar los reflejos alterad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ahoma"/>
              </a:rPr>
              <a:t>Objetivos del programa terapéu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429000" y="4495680"/>
            <a:ext cx="2438280" cy="12193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entury Gothic"/>
              </a:rPr>
              <a:t>T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laura3-1" descr=""/>
          <p:cNvPicPr/>
          <p:nvPr/>
        </p:nvPicPr>
        <p:blipFill>
          <a:blip r:embed="rId1"/>
          <a:stretch/>
        </p:blipFill>
        <p:spPr>
          <a:xfrm>
            <a:off x="3335400" y="2592360"/>
            <a:ext cx="2473200" cy="1673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80880" y="2895480"/>
            <a:ext cx="3048120" cy="11430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entury Gothic"/>
              </a:rPr>
              <a:t>MOV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91320" y="2819520"/>
            <a:ext cx="3047760" cy="11430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entury Gothic"/>
              </a:rPr>
              <a:t>SENSI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838080"/>
            <a:ext cx="77724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ahoma"/>
              </a:rPr>
              <a:t>Objetivos del programa terapéu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80520" y="31237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EURODESARROLLO: </a:t>
            </a:r>
            <a:r>
              <a:rPr b="1" lang="es-ES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TROL</a:t>
            </a:r>
            <a:r>
              <a:rPr b="1" lang="es-ES_trad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EFÁLICO</a:t>
            </a:r>
            <a:r>
              <a:rPr b="0" lang="es-ES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1" lang="es-ES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VOLTEOS </a:t>
            </a:r>
            <a:r>
              <a:rPr b="1" lang="es-ES_trad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</a:t>
            </a:r>
            <a:r>
              <a:rPr b="1" lang="es-ES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REPTACIÓN</a:t>
            </a:r>
            <a:r>
              <a:rPr b="1" lang="es-ES_trad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763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ahoma"/>
              </a:rPr>
              <a:t>Objetivos del programa terapéu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193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ahoma"/>
              </a:rPr>
              <a:t>Objetivos del programa terapéu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057400"/>
            <a:ext cx="9144000" cy="45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abajar las reacciones de enderezamiento y equilibri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adoptadas por el niño en el desarroll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acilitar las disociaciones de las dos cintu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rrección post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nsi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conocimiento del cuer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bajar los movimientos en el espa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nipulación  y habilidades man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Sylfae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609480"/>
            <a:ext cx="79246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ahoma"/>
              </a:rPr>
              <a:t>Objetivos del programa terapéu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2286000"/>
            <a:ext cx="73915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ovimientos ríg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coordinación de movimi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arch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quilibri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Sobre exci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Colum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7617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Century Gothic"/>
              </a:rPr>
              <a:t>ATENCIÓN GLOBAL MULTIDISCIPLINAR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33526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trabajo conjunto de todos los miembros del </a:t>
            </a:r>
            <a:r>
              <a:rPr b="1" lang="es-ES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equipo multidisciplinar</a:t>
            </a:r>
            <a:r>
              <a:rPr b="0" lang="es-E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371600" y="762120"/>
            <a:ext cx="6781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Century Gothic"/>
              </a:rPr>
              <a:t>ATENCIÓN GLOBAL MULTIDISCIPLI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2133720"/>
            <a:ext cx="70102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Trabajarán para crear</a:t>
            </a:r>
            <a:r>
              <a:rPr b="0" lang="es-ES_tradnl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H</a:t>
            </a:r>
            <a:r>
              <a:rPr b="1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ábitos de sal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trol </a:t>
            </a:r>
            <a:r>
              <a:rPr b="1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os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</a:t>
            </a:r>
            <a:r>
              <a:rPr b="1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ntrol de la </a:t>
            </a:r>
            <a:r>
              <a:rPr b="1" lang="es-ES_tradnl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limentación</a:t>
            </a:r>
            <a:r>
              <a:rPr b="1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</a:t>
            </a:r>
            <a:r>
              <a:rPr b="1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áctica habitual de ejerc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752480" y="121932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91440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Terapias de Trat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2590920"/>
            <a:ext cx="739152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Sylfaen"/>
              </a:rPr>
              <a:t>Concepto Bob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Sylfaen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Sylfaen"/>
              </a:rPr>
              <a:t>Concepto Voj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Sylfaen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Sylfaen"/>
              </a:rPr>
              <a:t>Concepto Castillo Mo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Sylfaen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Sylfaen"/>
              </a:rPr>
              <a:t>Kab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533160"/>
            <a:ext cx="779292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Terapias de Trat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97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s-ES_tradnl" sz="2800" spc="-1" strike="noStrike">
                <a:solidFill>
                  <a:srgbClr val="ff0000"/>
                </a:solidFill>
                <a:latin typeface="Tahoma"/>
              </a:rPr>
              <a:t>Psicomotricidad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imulaciones táctil, sonora (paulatinos) y visual. Olfatoria y gustativa específicam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mportante identificación de estímulos que provocan avers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trol del cuerp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trol en el espac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ordin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920" y="1295280"/>
            <a:ext cx="6773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racterísticas del síndrom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Fenotipo en los varones: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cara alargada; mentón, orejas y frente grandes y prominentes. Macrocefalia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acroorquidism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Fenotipo conductual: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conductas motoras estereotipadas, tics, timidez, aislamiento soci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Más dificultoso a la hora del tto: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trastornos de la atención , hiperactividad e impulsividad severa y persist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99"/>
                </a:solidFill>
                <a:latin typeface="Tahoma"/>
              </a:rPr>
              <a:t>Características (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traso mental (diferentes tipos de intensida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ahoma"/>
              </a:rPr>
              <a:t>Problemas del habla y lengua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Hipersensibilidad a estímulos(disfunción de integración sensor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ahoma"/>
              </a:rPr>
              <a:t>Habilidades motrices poco desarrolla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Hiperactiv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obreexcit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1066320"/>
            <a:ext cx="5867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ff"/>
                </a:solidFill>
                <a:latin typeface="Tahoma"/>
                <a:ea typeface="Times New Roman"/>
              </a:rPr>
              <a:t>Periodo neonat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1905120"/>
            <a:ext cx="77724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Movimientos fetales disminu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roblemas de ali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Llanto anormal o aus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Hipotonía axial / distonía de miemb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Hipotonía mus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Hipoplasia geni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Laxitud art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strabismo y ojos de muñe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Hipersensibilidad a estím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128680"/>
            <a:ext cx="8763120" cy="45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traso en el desarrollo psicomo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traso del lenguaje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ipotonía mus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xitud art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simetría corpor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ificultad en la lacta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acia ami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nsibilidad a  diferentes estím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7621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CTANCIA Y PRIMERA INFA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2352600"/>
            <a:ext cx="76201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i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Obe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Falta de coord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i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Control Postural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i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scolios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i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quilib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Caídas frecuentes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uto le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11430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En la etapa escol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Sylfae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20574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Osteoporosis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omnolencia diurna excesiv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ensibilidad alterada a la temperatu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Dificultad de atención (hiperactiv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Dificultad en la recogida de inform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Dificultad con el espacio y la percepción de      forma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anipulación y habilidades manuales incontrol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121932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En la etapa escol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295280" y="1981080"/>
            <a:ext cx="7086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Century Gothic"/>
                <a:ea typeface="Times New Roman"/>
              </a:rPr>
              <a:t> </a:t>
            </a:r>
            <a:r>
              <a:rPr b="1" i="1" lang="es-ES_tradnl" sz="2400" spc="-1" strike="noStrike">
                <a:solidFill>
                  <a:srgbClr val="ff0000"/>
                </a:solidFill>
                <a:latin typeface="Century Gothic"/>
                <a:ea typeface="Times New Roman"/>
              </a:rPr>
              <a:t>Desviaciones de la colum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arácter obse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oblemas de 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Century Gothic"/>
                <a:ea typeface="Times New Roman"/>
              </a:rPr>
              <a:t> </a:t>
            </a:r>
            <a:r>
              <a:rPr b="1" i="1" lang="es-ES_tradnl" sz="2400" spc="-1" strike="noStrike">
                <a:solidFill>
                  <a:srgbClr val="ff0000"/>
                </a:solidFill>
                <a:latin typeface="Century Gothic"/>
                <a:ea typeface="Times New Roman"/>
              </a:rPr>
              <a:t>Dificultades para la march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Incapacidad de independ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Century Gothic"/>
                <a:ea typeface="Times New Roman"/>
              </a:rPr>
              <a:t>Equilibrio ine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entury Gothic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Century Gothic"/>
                <a:ea typeface="Times New Roman"/>
              </a:rPr>
              <a:t>Falta de coordinación corporal y   man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entury Gothic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Century Gothic"/>
                <a:ea typeface="Times New Roman"/>
              </a:rPr>
              <a:t>Movimientos ríg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entury Gothic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Century Gothic"/>
                <a:ea typeface="Times New Roman"/>
              </a:rPr>
              <a:t>Control de la pos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12193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En la etapa adolesc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Century Gothic"/>
              </a:rPr>
              <a:t>VALORACIÓN DEL NIÑ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2209680"/>
            <a:ext cx="89154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entury Gothic"/>
              </a:rPr>
              <a:t>EVALUACIÓN INICIAL Y SEGU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entury Gothic"/>
              </a:rPr>
              <a:t>DIAGNÓSTICO PRECOZ Y SU VALORACIÓN 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7T09:19:30Z</dcterms:created>
  <dc:creator>opac_1</dc:creator>
  <dc:description/>
  <dc:language>en-US</dc:language>
  <cp:lastModifiedBy>Ariel Villagra</cp:lastModifiedBy>
  <dcterms:modified xsi:type="dcterms:W3CDTF">2003-10-23T18:18:29Z</dcterms:modified>
  <cp:revision>34</cp:revision>
  <dc:subject/>
  <dc:title>Síndrome de X frágil</dc:title>
</cp:coreProperties>
</file>